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43DB-13E8-4D16-9409-C0B87F88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5A7F9-A7F4-4DA0-B8F3-85ED54BE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F4849-C7DE-4945-A53F-FB258A15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81EF8-7C36-4217-925B-60D27C78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2A790-426E-41AC-88E5-148BD01A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7855-C0E6-4FA8-AB77-2B046F28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136D-DC69-4576-879E-34C2C473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178F-890E-482C-84BE-179F2D69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ACB3-2FA5-4588-9BB4-28C99472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3D4A-CCA6-4E07-947E-FD602C21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F0D2-2C44-4B2C-B1F3-5CEF9AA3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BDCAC-B73C-4307-8BFA-65744272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209D-B50B-4328-B221-23976604245E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EDCI 6158:  SUMMER 2016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e8d8c"/>
                </a:solidFill>
                <a:latin typeface="Calibri"/>
              </a:rPr>
              <a:t>Class #3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e8d8c"/>
                </a:solidFill>
                <a:latin typeface="Calibri"/>
              </a:rPr>
              <a:t>Ethos, pathos, logos, extreme language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e8d8c"/>
                </a:solidFill>
                <a:latin typeface="Calibri"/>
              </a:rPr>
              <a:t>Peer Review: Trends/Issues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e8d8c"/>
                </a:solidFill>
                <a:latin typeface="Calibri"/>
              </a:rPr>
              <a:t>Crossover</a:t>
            </a:r>
            <a:r>
              <a:rPr b="0" lang="en-US" sz="1600" spc="-1" strike="noStrike">
                <a:solidFill>
                  <a:srgbClr val="8e8d8c"/>
                </a:solidFill>
                <a:latin typeface="Calibri"/>
              </a:rPr>
              <a:t> Lit Circle #1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oking closely at word choice…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Everyone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would agree that this issue is pertinen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s issue is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indisputably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one of the most pressing concerns teachers fac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s data reveals the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worst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test scores in over a decad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re has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never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been a more important time to focus on this issue than now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eachers are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completely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overwhelmed with the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sheer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number of failing student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Extreme or absolute languag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1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treme or Absolute Language makes an exaggerated, overblown, and probably untrue claim. It admits of no exceptions, and it seems to forbid doubt or questions” (Beers &amp; Probst, 2016, p. 136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20280" indent="-2214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xtreme language: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Never, none, totally, unquestionably, completely, unconditionally, absolutely, entirely, exclusively, all, everyone, no one, every single, no doubt, undisputable, always…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0280" indent="-2214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xtreme language: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risis, epidemic…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0280" indent="-2214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More subtle uses of extreme language: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eer, mere, only… (mere 40%, only 1/3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ff"/>
                </a:solidFill>
                <a:latin typeface="Calibri"/>
              </a:rPr>
              <a:t>Discuss in your groups: How does extreme language impact readers? What are the benefits to using such language? What are the downsides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1800" y="5486400"/>
            <a:ext cx="7659720" cy="11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5e47"/>
                </a:solidFill>
                <a:latin typeface="Cambria"/>
              </a:rPr>
              <a:t>EXTREME LANGUAGE: AN EXAMPLE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2160" y="3852720"/>
            <a:ext cx="6135840" cy="16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8d8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Extreme language and our profess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scuss in your table group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at </a:t>
            </a: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surprised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you in this video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ow did ideas/information in this video</a:t>
            </a: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 challenge, change, or confirm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at you already believed about the “role” of a teacher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ow does the “extreme language” used to describe the role of the teacher in this video impact </a:t>
            </a: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your personal view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of our profession? What about the </a:t>
            </a: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general public’s view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of our profession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Extreme or absolute languag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treme or Absolute Language makes an exaggerated, overblown, and probably untrue claim. It admits of no exceptions, and it seems to forbid doubt or questions” (Beers &amp; Probst, 2016, p. 136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xtreme language: Is it true? Is it needed?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Never, none, totally, unquestionably, completely, unconditionally, absolutely, entirely, exclusively, all, everyone, no one, every single, no doubt, undisputable, always…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xtreme language: Is it true? Is it exaggerated?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Crisis, epidemic…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More subtle uses of extreme language: Is it needed?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eer, mere, only… (mere 40%, only 1/3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ff"/>
                </a:solidFill>
                <a:latin typeface="Calibri"/>
              </a:rPr>
              <a:t>Look through your draft. Circle extreme language use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5724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iterature Circle Group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762120"/>
            <a:ext cx="3657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eam Alley-OOP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mand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yss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ria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rand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eam Kaboom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Natali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Meliss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the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rac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eam ALL ne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utum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Mark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th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eam Dunkalicious Class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Jos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hle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Kelly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Micha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0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0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eam Supersonic Sass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aur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lai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l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Marcu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iterature Circl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pend the next 20 minutes discussing your role sheets with your literature circle group member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ke sure that each person has a chance to share from his/her role shee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flection: Spend the next 3-4 minutes writing in response to one of these prompt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at, from my literature circle discussion, surprised me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at is something new (about the text, about myself)  I learned during today</a:t>
            </a:r>
            <a:r>
              <a:rPr b="0" lang="ja-JP" sz="2000" spc="-1" strike="noStrike">
                <a:solidFill>
                  <a:srgbClr val="2f2b20"/>
                </a:solidFill>
                <a:latin typeface="Calibri"/>
              </a:rPr>
              <a:t>’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 discussion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520" y="99072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5e47"/>
                </a:solidFill>
                <a:latin typeface="Cambria"/>
              </a:rPr>
              <a:t>HOMEWORK: 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6172200" cy="373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Revise </a:t>
            </a:r>
            <a:r>
              <a:rPr b="0" lang="ja-JP" sz="14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overview</a:t>
            </a:r>
            <a:r>
              <a:rPr b="0" lang="ja-JP" sz="1400" spc="-1" strike="noStrike">
                <a:solidFill>
                  <a:srgbClr val="ff0000"/>
                </a:solidFill>
                <a:latin typeface="Calibri"/>
              </a:rPr>
              <a:t>”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lang="ja-JP" sz="14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trend or issue</a:t>
            </a:r>
            <a:r>
              <a:rPr b="0" lang="ja-JP" sz="1400" spc="-1" strike="noStrike">
                <a:solidFill>
                  <a:srgbClr val="ff0000"/>
                </a:solidFill>
                <a:latin typeface="Calibri"/>
              </a:rPr>
              <a:t>”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 drafts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e8d8c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Think about ethos/pathos/logos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Consider extreme language.  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Email Erinn your draft by Friday (5/27). (You’re welcome to do so sooner)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d5225"/>
                </a:solidFill>
                <a:latin typeface="Calibri"/>
              </a:rPr>
              <a:t>Complete literature role sheet and reading for Thursday</a:t>
            </a:r>
            <a:r>
              <a:rPr b="0" lang="en-US" sz="1400" spc="-1" strike="noStrike">
                <a:solidFill>
                  <a:srgbClr val="8e8d8c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5e47"/>
                </a:solidFill>
                <a:latin typeface="Calibri"/>
              </a:rPr>
              <a:t>Literary luminary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5e47"/>
                </a:solidFill>
                <a:latin typeface="Calibri"/>
              </a:rPr>
              <a:t>Archeologist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5e47"/>
                </a:solidFill>
                <a:latin typeface="Calibri"/>
              </a:rPr>
              <a:t>Discussion Director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5e47"/>
                </a:solidFill>
                <a:latin typeface="Calibri"/>
              </a:rPr>
              <a:t>Connector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5e47"/>
                </a:solidFill>
                <a:latin typeface="Calibri"/>
              </a:rPr>
              <a:t>Illustrator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5e47"/>
                </a:solidFill>
                <a:latin typeface="Calibri"/>
              </a:rPr>
              <a:t>Poet (Create a poem in response to the reading)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e8d8c"/>
                </a:solidFill>
                <a:latin typeface="Calibri"/>
              </a:rPr>
              <a:t>On Thursday, we will begin our class meeting in Jordan 140A and move to computer lab. (We will begin working on our wiki!)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ilent Debat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air up with another pers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erson who is taller = </a:t>
            </a:r>
            <a:r>
              <a:rPr b="0" lang="ja-JP" sz="20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t lover</a:t>
            </a:r>
            <a:r>
              <a:rPr b="0" lang="ja-JP" sz="2000" spc="-1" strike="noStrike">
                <a:solidFill>
                  <a:srgbClr val="2f2b2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erson who is shorter = </a:t>
            </a:r>
            <a:r>
              <a:rPr b="0" lang="ja-JP" sz="20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og lover</a:t>
            </a:r>
            <a:r>
              <a:rPr b="0" lang="ja-JP" sz="2000" spc="-1" strike="noStrike">
                <a:solidFill>
                  <a:srgbClr val="2f2b2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gage in a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silent debate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:  Write down why your animal makes the better pet within the time limit.  Read your partner</a:t>
            </a:r>
            <a:r>
              <a:rPr b="0" lang="ja-JP" sz="2200" spc="-1" strike="noStrike">
                <a:solidFill>
                  <a:srgbClr val="2f2b2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 argument and reply to his/her argumen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You may use facts, personal experience, examples, and/or common knowledge to support  your claims.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De-Brief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What were some ways in which you supported your argument?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a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ersonal experience or expertise with the topic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motional appe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Etho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Patho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ogo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C:\Users\Erinn\AppData\Local\Microsoft\Windows\Temporary Internet Files\Content.IE5\LE0O2IRL\MC900434389[1].wmf"/>
          <p:cNvPicPr/>
          <p:nvPr/>
        </p:nvPicPr>
        <p:blipFill>
          <a:blip r:embed="rId1"/>
          <a:stretch/>
        </p:blipFill>
        <p:spPr>
          <a:xfrm>
            <a:off x="6172200" y="3124080"/>
            <a:ext cx="12063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go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ogos = the logical appeal (reason and rationality). It is normally used to describe the facts and figures that support the speaker</a:t>
            </a:r>
            <a:r>
              <a:rPr b="0" lang="ja-JP" sz="2800" spc="-1" strike="noStrike">
                <a:solidFill>
                  <a:srgbClr val="2f2b2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 topic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3" name="Picture 2" descr="C:\Users\Erinn\AppData\Local\Microsoft\Windows\Temporary Internet Files\Content.IE5\YCAQROUU\MC900431584[1].png"/>
          <p:cNvPicPr/>
          <p:nvPr/>
        </p:nvPicPr>
        <p:blipFill>
          <a:blip r:embed="rId1"/>
          <a:stretch/>
        </p:blipFill>
        <p:spPr>
          <a:xfrm>
            <a:off x="5334120" y="2917800"/>
            <a:ext cx="1828800" cy="1827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4648320" y="1219320"/>
            <a:ext cx="327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Where, in my drafts, have I used Logos?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Where should I use Logos?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Patho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athos = an appeal to the audience</a:t>
            </a:r>
            <a:r>
              <a:rPr b="0" lang="ja-JP" sz="2000" spc="-1" strike="noStrike">
                <a:solidFill>
                  <a:srgbClr val="2f2b20"/>
                </a:solidFill>
                <a:latin typeface="Calibri"/>
              </a:rPr>
              <a:t>’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 emotions. It can be in the form of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f2b20"/>
                </a:solidFill>
                <a:latin typeface="Calibri"/>
              </a:rPr>
              <a:t>Metaphor or simile, 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f2b20"/>
                </a:solidFill>
                <a:latin typeface="Calibri"/>
              </a:rPr>
              <a:t>A passionate delivery, 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f2b20"/>
                </a:solidFill>
                <a:latin typeface="Calibri"/>
              </a:rPr>
              <a:t>Or a simple claim that a matter is unjust. 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athos is most effective when the author connects with an underlying value of the reader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70320" y="3429000"/>
            <a:ext cx="3657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Where, in my drafts, do I use Pathos?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re there places I could (or should) use Pathos?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8" name="Picture 9" descr=""/>
          <p:cNvPicPr/>
          <p:nvPr/>
        </p:nvPicPr>
        <p:blipFill>
          <a:blip r:embed="rId1"/>
          <a:stretch/>
        </p:blipFill>
        <p:spPr>
          <a:xfrm>
            <a:off x="6019920" y="1143000"/>
            <a:ext cx="18795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Etho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Ethos = an appeal to the authority or honesty of the speaker. It is how well the speaker convinces the audience that he or she is qualified to speak on the particular subject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70320" y="4190760"/>
            <a:ext cx="3657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Where, in my drafts, do I use Ethos?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Where could (or should) I use Ethos?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2" name="Picture 12" descr=""/>
          <p:cNvPicPr/>
          <p:nvPr/>
        </p:nvPicPr>
        <p:blipFill>
          <a:blip r:embed="rId1"/>
          <a:srcRect l="954" t="3608" r="-927" b="-3588"/>
          <a:stretch/>
        </p:blipFill>
        <p:spPr>
          <a:xfrm>
            <a:off x="4800600" y="685800"/>
            <a:ext cx="1359000" cy="1816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"/>
          <p:cNvPicPr/>
          <p:nvPr/>
        </p:nvPicPr>
        <p:blipFill>
          <a:blip r:embed="rId2"/>
          <a:stretch/>
        </p:blipFill>
        <p:spPr>
          <a:xfrm>
            <a:off x="5943600" y="2209680"/>
            <a:ext cx="158256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Drafting and revising notes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member:  Ethos is the experience and expertise you bring to your topic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You need not use all 3 rhetorical strategies in your wiki projec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You should have a balance in your overall approach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Peer review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w can your peers help you? Think of 2-3 questions to ask them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ow is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ontent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of my piece? Do I need more information? Where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ow is my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ton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? Do I sound biased? Where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ow is my </a:t>
            </a:r>
            <a:r>
              <a:rPr b="0" lang="en-US" sz="2000" spc="-1" strike="noStrike">
                <a:solidFill>
                  <a:srgbClr val="7030a0"/>
                </a:solidFill>
                <a:latin typeface="Calibri"/>
              </a:rPr>
              <a:t>support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? Do I need more statistics? Anecdotes? Descriptions? Where?</a:t>
            </a:r>
            <a:br>
              <a:rPr sz="2000"/>
            </a:b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ow is my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organization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? Do I need to rearrange information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ork in your table group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ad aloud (or read silently) one another</a:t>
            </a:r>
            <a:r>
              <a:rPr b="0" lang="ja-JP" sz="2200" spc="-1" strike="noStrike">
                <a:solidFill>
                  <a:srgbClr val="2f2b2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 drafts. Provide each other with feedback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Spend 7-9 minutes per person</a:t>
            </a:r>
            <a:r>
              <a:rPr b="0" lang="ja-JP" sz="2200" spc="-1" strike="noStrike">
                <a:solidFill>
                  <a:srgbClr val="ff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s draft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oking closely at word choice…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veryone would agree that this issue is pertinen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s issue is indisputably one of the most pressing concerns teachers fac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s data reveals the worst test scores in over a decad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re has never been a more important time to focus on this issue than now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eachers are completely overwhelmed with the sheer number of failing student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5225"/>
                </a:solidFill>
                <a:latin typeface="Calibri"/>
              </a:rPr>
              <a:t>What do you notice about these statements? What do they have in common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5a39d"/>
                </a:solidFill>
                <a:latin typeface="Calibri"/>
              </a:rPr>
              <a:t>What words stand out to you as “clues” revealing the author’s feelings or biases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3T20:11:17Z</dcterms:created>
  <dc:creator>Erinn</dc:creator>
  <dc:description/>
  <dc:language>en-US</dc:language>
  <cp:lastModifiedBy>csu</cp:lastModifiedBy>
  <dcterms:modified xsi:type="dcterms:W3CDTF">2016-05-24T23:21:33Z</dcterms:modified>
  <cp:revision>23</cp:revision>
  <dc:subject/>
  <dc:title>Slide 1</dc:title>
</cp:coreProperties>
</file>